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1C2-46B6-4B27-87AE-EB69D5E5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EB9-8F84-43CF-A3B8-AABE35A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941-4802-4D30-B3D2-4B7B91D6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8F0-940C-4761-8134-03B0E1D5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2C97-5715-4108-8A3E-CA07786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5592-C41A-4F69-B391-10DAA9CE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142A7-0BB9-4993-80E7-FC345FC5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CAF0-7157-4A41-BEF9-AF61BEE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D1DA-8D97-414C-AA29-8B310CC4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7D81-2169-4F12-A0A4-3D8F3ED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4917-A76C-4018-8D93-053B9F8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7F3-E021-4763-9AFD-1F8299F4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761A-8EBC-4B06-AF94-84E500A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2FA60-BE67-4F10-9B42-A754ACA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54A0A-150F-4E03-B31E-3811B072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5D0F-D5DB-4826-8388-5ED447A7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E33A-5A82-484B-AD1C-F3FAA9C8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99D-8D49-48E0-8091-7F185927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47E-4B15-467D-84A0-F2372CD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94E-5111-44D9-BDF3-C11CC7FE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DD6-1C43-4F8D-A2B6-C8AB45A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40A-40E8-4591-8DE4-490BE9E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F2D-D21E-49E4-B186-1559397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26B-9E38-46EB-9C1A-A4B0179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44A0-E967-49EC-AE92-86AC7AE2E4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94FF-A400-4FF1-B44E-2BDBDB7DA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50states.com/NorthDakot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northdakota.html" TargetMode="Externa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62720" y="46483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48769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Pe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Computer 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0"/>
            <a:ext cx="8382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rint MT Shadow"/>
              </a:rPr>
              <a:t>North Dakota </a:t>
            </a:r>
            <a:endParaRPr b="0" lang="en-US" sz="1800" spc="1" strike="noStrike">
              <a:ln w="12600">
                <a:solidFill>
                  <a:srgbClr val="99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665680"/>
            <a:ext cx="312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0 States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Chicago song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, 10/7/2010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50states.com/NorthDak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102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tates name is North Dak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is Bismar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opulation is 642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this state entered the union it was November 2, 18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nickname for the state is pea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arden/Flicker state/Sioux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71920" y="3200400"/>
            <a:ext cx="46720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514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99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main bird for the state is the Western Meadow L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theme song is North Dakota 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Meaning behind the name is that its an Indian tribal name meaning ’’Alliance Friends’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Some interesting facts about North Dakota it is the 47th most populous state in the U.S.A there was also battle for land and the Indians Once lived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North Dakota: Map and State Flag"/>
          <p:cNvPicPr/>
          <p:nvPr/>
        </p:nvPicPr>
        <p:blipFill>
          <a:blip r:embed="rId2"/>
          <a:srcRect l="13460" t="0" r="12075" b="60013"/>
          <a:stretch/>
        </p:blipFill>
        <p:spPr>
          <a:xfrm>
            <a:off x="152280" y="0"/>
            <a:ext cx="3657600" cy="228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46483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n’s guide to U.S government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Quick Facts: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orth Dakota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/22/2010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bensguide.gpo.gov/3-5/state/northdakot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181480" y="152280"/>
            <a:ext cx="3962520" cy="1994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67480" y="0"/>
            <a:ext cx="16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ahoma"/>
              </a:rPr>
              <a:t>Clip a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8616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018200" y="4741920"/>
            <a:ext cx="2125800" cy="2116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1388200">
            <a:off x="5638320" y="1371600"/>
            <a:ext cx="2746440" cy="149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3178080" cy="304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3600" y="4038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0Z</dcterms:created>
  <dc:creator>install</dc:creator>
  <dc:description/>
  <dc:language>en-US</dc:language>
  <cp:lastModifiedBy>install</cp:lastModifiedBy>
  <dcterms:modified xsi:type="dcterms:W3CDTF">2010-10-14T15:21:23Z</dcterms:modified>
  <cp:revision>9</cp:revision>
  <dc:subject/>
  <dc:title>Slide 1</dc:title>
</cp:coreProperties>
</file>